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48E9-AD7C-4A84-81AD-E89EC933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49BC-B9C9-4A6A-A562-CD376108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33D49-7671-44E2-8604-4B4718C2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3C994-65A6-4088-9EB6-4D98496A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9ACB5-4DD8-4699-A73D-21C145C2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9986D-3D9F-4A3C-96AA-F7BED018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29D02-1119-4ABE-840E-9E241BC8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5C2DE-6375-46EF-930F-B9F81A0A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E28A4-DB09-4DD9-A73D-60355C01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696B1-5E8E-4D0C-AFEE-A96C49278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AA9EB-2B6C-49D5-A4AB-2C7BF2E58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5C0DBE-2EC2-4E38-9085-C5C33A060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A71D-95E5-4A6C-9732-1259B1200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0C55C7-17E3-4E44-8251-58FF1E8F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CC96D8-2FEC-4867-9C68-63029AA3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940F4-B263-4E87-BC85-C16AAD53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AF9C9-B3F7-4F90-8126-EB3706D5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9D43B7-D595-4451-B75A-0CF3C658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8DE6B-0E3B-415C-9796-68648936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06D539-57D6-48D6-A43B-75D4407B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6477B-08E6-4050-B2D9-AF2E27A1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13F8FE-F0DB-4963-8243-CABB3509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CF5D6-6A30-4151-814E-6105B30E7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8DC8-0EAC-4FB0-99AA-19299D49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3401D-58EF-4BC6-A445-F01D43C42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74A9F-BC09-481B-ACBE-A4E3BBF83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A52B3-A3FB-44EF-BDBA-6BE42471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AD3F1-4C4B-49B1-934D-E3044644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C8316-1C18-4AC8-9517-0E79507E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2B38C-9608-4C11-ABD5-3892ECC8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18BEE-2749-4871-AFBA-1B734C5C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B2EBB-B590-4368-948B-04D4690F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BE5D5-5D48-4F07-AC9C-D5761741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F1BF19-5070-4DD3-A1BF-03883A7E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5363-F271-44F5-A757-B75D8E99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8B008-C9CD-43C6-8C5D-FCA8F683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AE6C0-3BD1-4066-9746-D00D9F489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EDBF5-D691-4D79-ACC3-FEE3F73A8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DB75-3173-4AE2-A68E-F345142A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4928-7166-43C3-9784-30EC539C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2CE9-A680-4E30-B693-46230EE3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348C-8C99-4105-962B-C739E5BD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6AB4-8390-4732-BE6B-22C2964B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5C59-11E4-44A0-B60E-81EE170F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A1BC-EE08-4D02-A166-A6C7EA24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249D-DFAA-402D-BDC9-DFBF5936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93ED-0363-42AD-9A80-10581B6C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3CF5-BD8F-4800-9E66-593B4D96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B444-0C24-4527-820A-CBC8A1BE5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6C1E-FD76-4880-84C5-7E05E09C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00799-BC66-4100-8D6D-46A2AE137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D2391-D739-4262-ACF1-C62EAADF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B0C4B-1485-4D05-ACA7-944D933F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E1BB7-0989-4DAF-86C8-1275F1BE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2F211-0650-4A59-95DE-F0668711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464C-4C81-481E-A630-9B905BE3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2552E-DB31-4D22-A521-785AA6D7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083A5-A8ED-4052-B8A1-B1AD6581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F02D0-E03C-4312-A2A6-07311CAD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03906-D277-4943-8C33-472E06CF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9CF97-012D-4EA8-BC34-B62B098C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1BE9C-7A77-4158-A39F-C744E42C5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D74DF-1DCA-485F-B26F-33162728C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4CA67-57DF-447E-ABB0-55BF9377D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41DFF-56B9-4886-9055-26B121DE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3E155-AA84-43B0-89FA-3171FFF1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5F98-78F6-46D5-95EF-E1E608E4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C2EC4-2680-406C-948C-5FBF765D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05C92-2CC4-40ED-AF05-7596C859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6DDD9-A6FF-4D20-8AF5-E41F04F9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3E5E9-96E1-4151-905D-80C51803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9C841-9899-4265-955E-0E6A30EA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FB335-5F82-4E00-9696-573758DA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6A5EA-388F-4457-A977-E502F03C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B8935-606B-4529-A321-9D26230D9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10384-85A6-4FBA-9EAB-9CD18CC7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5CF1D-EE0F-44F8-BB3E-A187080C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E350-7678-4377-87A8-7F39F573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E415B-95D3-4623-87D9-5C55CED9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79B26-8029-489B-AFE0-4DB1EF4E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0E66C-A344-413F-88E5-BD39B09F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FCE7A-94C9-408B-9F9D-B63FF849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A379A-18D0-47B2-BD1A-A374A8B7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F0BF0-6567-484C-9EBA-E94A4C9F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F5697-8005-4EAD-B06E-86829171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53C5D-0DA4-43BF-BE88-BFCC68A0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7DD85-BEFE-415A-B8B6-4A9DE443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1B122-3C86-446C-AB2C-875BC32ED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21DC-2B68-4996-A53A-F1CC3CC8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C3EA8-2630-41AC-A3B0-30FAEF042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0BD4E-A8DD-4E47-8CF7-ED447087F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2E33E-B68D-4AF9-85F3-8A3ADB20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60B2A-B815-4FC3-8DCD-F9F89F7F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C5406-9111-4C20-B495-1EE1C8E5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DA21B-D9A1-4807-A545-7BED3C9D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2014A-C635-4EDB-9BA9-9A8A3036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9689C-CD00-4769-B4BA-C555DCB6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EB59D-57F2-4E55-81A6-5FB10A75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84C52-085E-41D3-8895-62A3A9F2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ED48-258C-40FA-A29C-87800622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FACF0-256A-417F-84D9-E03F04CB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82422-8D08-40C3-9B87-EE3924CFC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914E5-94BA-4767-8703-8F0F0F46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CA711-B101-47C5-9A00-3F3E36447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FA283-34D8-4CFF-A7F7-F8DDD8DB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BB224-3D84-4259-9A17-092CA19D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D8235-230A-4E78-8398-EAE96A63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3029C-7F35-4AEC-BBF7-442916DE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76A50-9FD4-4616-947B-5C502912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72722-552B-4536-89DE-F97131C0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EEED-F7E3-4163-AF52-11302184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E57FF-287A-4A14-A7A3-1EBD67F5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BF765-3024-4D34-9329-15D7809A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14C49-E404-4B8A-A360-6BF45281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3EACB-FA24-4D4F-92B8-9656A830B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BE572-1311-47F5-A019-B778B1909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DC828-C63B-4675-8C4F-79524B96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5F6F3-579D-4C38-B3C5-D0119154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55611-2BBF-40C0-B4B8-F0F05BBD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9D6AB-BB3B-4BCF-AD09-9F72A5DB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134AA-5137-4C62-A727-12E83155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E638-ED2A-400B-AE56-F91C15C1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6A12B-A989-403A-BCB5-F3B0C801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B6649-9DFB-4D6F-87AF-354A10B8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89457-4A38-4673-A1BD-D8322852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15E08-9EDF-4B5F-88E7-3B9EFD15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0D86B-3B9A-484C-8FA2-9FC81FFA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1C6B6-AA9E-4DF7-BC14-153B06CE0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F93F7-A0E6-4498-A6CA-D7AE442C2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27E6E-9E59-498B-BFB1-C4024AB69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1FFFA4-3E13-4455-8072-07734C82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4C310-3749-47D9-B111-2B7925E7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BA89C75-7E6A-4D56-8B61-52E0A000F7E1}" type="slidenum"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448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4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4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7EB23A5-654C-4F32-B029-3127B0984326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498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4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5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E013378-0593-4E37-A003-77779158C66B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3866374-A944-4EB7-B000-C1EAC4283B41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AB68941-5FB1-4F5F-876D-C5B71D9B7F26}" type="slidenum">
              <a:rPr b="0" lang="ru-RU" sz="13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AD13883-1237-4736-97AD-B8C3106C55CE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20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2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2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662AB1F-60A8-4D7E-8359-B7246E31450A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25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2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2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72B9198-3352-4AAE-A837-BD63E1B08764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30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3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3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F868E0B-04AE-412B-A8A1-0C9BF67BB53B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35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3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3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EC81F97-5FCB-4166-B42B-29A4E4703E71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рямоугольник с одним вырезанным скругленным углом 13"/>
          <p:cNvSpPr/>
          <p:nvPr/>
        </p:nvSpPr>
        <p:spPr>
          <a:xfrm flipV="1" rot="420000">
            <a:off x="3489120" y="1220400"/>
            <a:ext cx="5797440" cy="453708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ый треугольник 14"/>
          <p:cNvSpPr/>
          <p:nvPr/>
        </p:nvSpPr>
        <p:spPr>
          <a:xfrm flipV="1" rot="420000">
            <a:off x="8823240" y="5907960"/>
            <a:ext cx="171360" cy="17136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400" bIns="5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олилиния 15"/>
          <p:cNvSpPr/>
          <p:nvPr/>
        </p:nvSpPr>
        <p:spPr>
          <a:xfrm flipV="1">
            <a:off x="-10800" y="641196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олилиния 16"/>
          <p:cNvSpPr/>
          <p:nvPr/>
        </p:nvSpPr>
        <p:spPr>
          <a:xfrm flipV="1">
            <a:off x="4830840" y="685584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8904240" y="7007040"/>
            <a:ext cx="6732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F332ABA-31A8-4F62-B0B9-BCE2113FFCBC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3754080" y="922320"/>
            <a:ext cx="2143080" cy="5292720"/>
          </a:xfrm>
          <a:prstGeom prst="rect">
            <a:avLst/>
          </a:prstGeom>
          <a:noFill/>
          <a:ln w="0">
            <a:noFill/>
          </a:ln>
        </p:spPr>
        <p:txBody>
          <a:bodyPr lIns="0" rIns="20160" tIns="50400" bIns="50400" anchor="t">
            <a:no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1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0000"/>
                </a:solidFill>
                <a:latin typeface="Constantia"/>
              </a:rPr>
              <a:t>А</a:t>
            </a:r>
            <a:r>
              <a:rPr b="0" lang="ru-RU" sz="66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Прямая соединительная линия 4"/>
          <p:cNvSpPr/>
          <p:nvPr/>
        </p:nvSpPr>
        <p:spPr>
          <a:xfrm flipH="1">
            <a:off x="4397040" y="3564720"/>
            <a:ext cx="142884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одзаголовок 2"/>
          <p:cNvSpPr/>
          <p:nvPr/>
        </p:nvSpPr>
        <p:spPr>
          <a:xfrm>
            <a:off x="5969160" y="2351160"/>
            <a:ext cx="4314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r>
              <a:rPr b="0" lang="ru-RU" sz="12000" spc="-1" strike="noStrike">
                <a:solidFill>
                  <a:srgbClr val="000000"/>
                </a:solidFill>
                <a:latin typeface="Constantia"/>
              </a:rPr>
              <a:t>ЁМЫ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503280" y="1692360"/>
            <a:ext cx="374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15880" y="-902520"/>
            <a:ext cx="856944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275760" y="446040"/>
            <a:ext cx="9804600" cy="71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Line 636"/>
          <p:cNvSpPr/>
          <p:nvPr/>
        </p:nvSpPr>
        <p:spPr>
          <a:xfrm>
            <a:off x="1209600" y="13968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357120" y="1241280"/>
          <a:ext cx="9723600" cy="5715000"/>
        </p:xfrm>
        <a:graphic>
          <a:graphicData uri="http://schemas.openxmlformats.org/drawingml/2006/table">
            <a:tbl>
              <a:tblPr/>
              <a:tblGrid>
                <a:gridCol w="1290600"/>
                <a:gridCol w="1406520"/>
                <a:gridCol w="1405080"/>
                <a:gridCol w="1405080"/>
                <a:gridCol w="1404720"/>
                <a:gridCol w="1406520"/>
                <a:gridCol w="1405080"/>
              </a:tblGrid>
              <a:tr h="57168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0" name="Rectangle 717"/>
          <p:cNvSpPr/>
          <p:nvPr/>
        </p:nvSpPr>
        <p:spPr>
          <a:xfrm>
            <a:off x="0" y="5705640"/>
            <a:ext cx="2030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1" name=""/>
          <p:cNvGraphicFramePr/>
          <p:nvPr/>
        </p:nvGraphicFramePr>
        <p:xfrm>
          <a:off x="0" y="0"/>
          <a:ext cx="10080720" cy="7556400"/>
        </p:xfrm>
        <a:graphic>
          <a:graphicData uri="http://schemas.openxmlformats.org/drawingml/2006/table">
            <a:tbl>
              <a:tblPr/>
              <a:tblGrid>
                <a:gridCol w="1338120"/>
                <a:gridCol w="1459080"/>
                <a:gridCol w="1455840"/>
                <a:gridCol w="1457280"/>
                <a:gridCol w="1455480"/>
                <a:gridCol w="1459080"/>
                <a:gridCol w="1455840"/>
              </a:tblGrid>
              <a:tr h="75564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15880" y="-902520"/>
            <a:ext cx="856944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275760" y="446040"/>
            <a:ext cx="9804600" cy="71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Line 4"/>
          <p:cNvSpPr/>
          <p:nvPr/>
        </p:nvSpPr>
        <p:spPr>
          <a:xfrm>
            <a:off x="1209600" y="13968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357120" y="1241280"/>
          <a:ext cx="9723600" cy="5715000"/>
        </p:xfrm>
        <a:graphic>
          <a:graphicData uri="http://schemas.openxmlformats.org/drawingml/2006/table">
            <a:tbl>
              <a:tblPr/>
              <a:tblGrid>
                <a:gridCol w="1290600"/>
                <a:gridCol w="1406520"/>
                <a:gridCol w="1405080"/>
                <a:gridCol w="1405080"/>
                <a:gridCol w="1404720"/>
                <a:gridCol w="1406520"/>
                <a:gridCol w="1405080"/>
              </a:tblGrid>
              <a:tr h="57168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6" name="Rectangle 91"/>
          <p:cNvSpPr/>
          <p:nvPr/>
        </p:nvSpPr>
        <p:spPr>
          <a:xfrm>
            <a:off x="0" y="5705640"/>
            <a:ext cx="2030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15880" y="-902520"/>
            <a:ext cx="856944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275760" y="446040"/>
            <a:ext cx="9804600" cy="71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9" name="Line 4"/>
          <p:cNvSpPr/>
          <p:nvPr/>
        </p:nvSpPr>
        <p:spPr>
          <a:xfrm>
            <a:off x="1209600" y="13968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357120" y="1241280"/>
          <a:ext cx="9723600" cy="5715000"/>
        </p:xfrm>
        <a:graphic>
          <a:graphicData uri="http://schemas.openxmlformats.org/drawingml/2006/table">
            <a:tbl>
              <a:tblPr/>
              <a:tblGrid>
                <a:gridCol w="1290600"/>
                <a:gridCol w="1406520"/>
                <a:gridCol w="1405080"/>
                <a:gridCol w="1405080"/>
                <a:gridCol w="1404720"/>
                <a:gridCol w="1406520"/>
                <a:gridCol w="1405080"/>
              </a:tblGrid>
              <a:tr h="57168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</a:t>
                      </a:r>
                      <a:r>
                        <a:rPr b="0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15880" y="-902520"/>
            <a:ext cx="856944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275760" y="446040"/>
            <a:ext cx="9804600" cy="71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3" name="Line 4"/>
          <p:cNvSpPr/>
          <p:nvPr/>
        </p:nvSpPr>
        <p:spPr>
          <a:xfrm>
            <a:off x="1209600" y="13968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357120" y="1241280"/>
          <a:ext cx="9723600" cy="5731200"/>
        </p:xfrm>
        <a:graphic>
          <a:graphicData uri="http://schemas.openxmlformats.org/drawingml/2006/table">
            <a:tbl>
              <a:tblPr/>
              <a:tblGrid>
                <a:gridCol w="1290600"/>
                <a:gridCol w="1406520"/>
                <a:gridCol w="1405080"/>
                <a:gridCol w="1405080"/>
                <a:gridCol w="1404720"/>
                <a:gridCol w="1406520"/>
                <a:gridCol w="1405080"/>
              </a:tblGrid>
              <a:tr h="57312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</a:t>
                      </a:r>
                      <a:r>
                        <a:rPr b="0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Р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5" name="Rectangle 91"/>
          <p:cNvSpPr/>
          <p:nvPr/>
        </p:nvSpPr>
        <p:spPr>
          <a:xfrm>
            <a:off x="0" y="5705640"/>
            <a:ext cx="2030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15880" y="-902520"/>
            <a:ext cx="856944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275760" y="446040"/>
            <a:ext cx="9804600" cy="71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Line 4"/>
          <p:cNvSpPr/>
          <p:nvPr/>
        </p:nvSpPr>
        <p:spPr>
          <a:xfrm>
            <a:off x="1209600" y="13968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357120" y="1241280"/>
          <a:ext cx="9723600" cy="5731200"/>
        </p:xfrm>
        <a:graphic>
          <a:graphicData uri="http://schemas.openxmlformats.org/drawingml/2006/table">
            <a:tbl>
              <a:tblPr/>
              <a:tblGrid>
                <a:gridCol w="1290600"/>
                <a:gridCol w="1406520"/>
                <a:gridCol w="1405080"/>
                <a:gridCol w="1405080"/>
                <a:gridCol w="1404720"/>
                <a:gridCol w="1406520"/>
                <a:gridCol w="1405080"/>
              </a:tblGrid>
              <a:tr h="57312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 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r>
                        <a:rPr b="0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20" name="Rectangle 91"/>
          <p:cNvSpPr/>
          <p:nvPr/>
        </p:nvSpPr>
        <p:spPr>
          <a:xfrm>
            <a:off x="0" y="5705640"/>
            <a:ext cx="2030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15880" y="-902520"/>
            <a:ext cx="856944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275760" y="446040"/>
            <a:ext cx="9804600" cy="71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Line 4"/>
          <p:cNvSpPr/>
          <p:nvPr/>
        </p:nvSpPr>
        <p:spPr>
          <a:xfrm>
            <a:off x="1209600" y="13968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357120" y="1241280"/>
          <a:ext cx="9723600" cy="5731200"/>
        </p:xfrm>
        <a:graphic>
          <a:graphicData uri="http://schemas.openxmlformats.org/drawingml/2006/table">
            <a:tbl>
              <a:tblPr/>
              <a:tblGrid>
                <a:gridCol w="1290600"/>
                <a:gridCol w="1406520"/>
                <a:gridCol w="1405080"/>
                <a:gridCol w="1405080"/>
                <a:gridCol w="1404720"/>
                <a:gridCol w="1406520"/>
                <a:gridCol w="1405080"/>
              </a:tblGrid>
              <a:tr h="57312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00"/>
                        </a:buClr>
                        <a:buSzPct val="95000"/>
                        <a:buFont typeface="Arial"/>
                        <a:buAutoNum type="arabicPlain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00"/>
                        </a:buClr>
                        <a:buSzPct val="95000"/>
                        <a:buFont typeface="Arial"/>
                        <a:buAutoNum type="arabicPlain" startAt="6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00"/>
                        </a:buClr>
                        <a:buSzPct val="95000"/>
                        <a:buFont typeface="Arial"/>
                        <a:buAutoNum type="arabicPlain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00"/>
                        </a:buClr>
                        <a:buSzPct val="95000"/>
                        <a:buFont typeface="Arial"/>
                        <a:buAutoNum type="arabicPlain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00"/>
                        </a:buClr>
                        <a:buSzPct val="95000"/>
                        <a:buFont typeface="Arial"/>
                        <a:buAutoNum type="arabicPlain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25" name="Rectangle 91"/>
          <p:cNvSpPr/>
          <p:nvPr/>
        </p:nvSpPr>
        <p:spPr>
          <a:xfrm>
            <a:off x="0" y="5705640"/>
            <a:ext cx="2030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595440" y="0"/>
          <a:ext cx="9072360" cy="7182000"/>
        </p:xfrm>
        <a:graphic>
          <a:graphicData uri="http://schemas.openxmlformats.org/drawingml/2006/table">
            <a:tbl>
              <a:tblPr/>
              <a:tblGrid>
                <a:gridCol w="1204920"/>
                <a:gridCol w="1311120"/>
                <a:gridCol w="1311120"/>
                <a:gridCol w="1311480"/>
                <a:gridCol w="1311120"/>
                <a:gridCol w="1311480"/>
                <a:gridCol w="1311120"/>
              </a:tblGrid>
              <a:tr h="71748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928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</a:t>
                      </a:r>
                      <a:r>
                        <a:rPr b="1" lang="ru-RU" sz="3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Р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 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1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10080720" cy="75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550" name="Rectangle 2"/>
          <p:cNvSpPr/>
          <p:nvPr/>
        </p:nvSpPr>
        <p:spPr>
          <a:xfrm>
            <a:off x="0" y="63360"/>
            <a:ext cx="10080720" cy="7559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56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ffd320"/>
                </a:solidFill>
                <a:latin typeface="Arial"/>
              </a:rPr>
              <a:t>ВОДОЁМ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10080720" cy="755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55260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ЗАДАНИЕ А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то учёные называют водоёмами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акой водоём называется озером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то называют рекой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иведи примеры искусственных водоёмов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ак называются самые большие водоёмы на Земле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ЗАДАНИЕ В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то такое исток реки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то такое устье реки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то такое русло реки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чему у истока река узкая, а в устье – широкая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ЗАДАНИЕ С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ыполнить практическую работу на с.15 ТПО(№30):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Укажи на схеме: устье реки, исток реки, приток реки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кажи стрелкой направление течения реки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означь на схеме правый и левый берега реки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60520" y="58680"/>
            <a:ext cx="890424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4617b"/>
                </a:solidFill>
                <a:latin typeface="Arial"/>
              </a:rPr>
              <a:t>ОЗЕРО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503280" y="2177640"/>
            <a:ext cx="9075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4" name="Picture 3" descr=""/>
          <p:cNvPicPr/>
          <p:nvPr/>
        </p:nvPicPr>
        <p:blipFill>
          <a:blip r:embed="rId2"/>
          <a:stretch/>
        </p:blipFill>
        <p:spPr>
          <a:xfrm>
            <a:off x="0" y="1355760"/>
            <a:ext cx="10080720" cy="62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60520" y="58680"/>
            <a:ext cx="890424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4617b"/>
                </a:solidFill>
                <a:latin typeface="Arial"/>
              </a:rPr>
              <a:t>РЕКА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3280" y="2177640"/>
            <a:ext cx="9075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7" name="Picture 3" descr=""/>
          <p:cNvPicPr/>
          <p:nvPr/>
        </p:nvPicPr>
        <p:blipFill>
          <a:blip r:embed="rId2"/>
          <a:stretch/>
        </p:blipFill>
        <p:spPr>
          <a:xfrm>
            <a:off x="216000" y="1403280"/>
            <a:ext cx="9864720" cy="61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60520" y="58680"/>
            <a:ext cx="890424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4617b"/>
                </a:solidFill>
                <a:latin typeface="Arial"/>
              </a:rPr>
              <a:t>ДЕКОРАТИВНЫЙ ПРУД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503280" y="2177640"/>
            <a:ext cx="9075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0" name="Picture 3" descr=""/>
          <p:cNvPicPr/>
          <p:nvPr/>
        </p:nvPicPr>
        <p:blipFill>
          <a:blip r:embed="rId2"/>
          <a:stretch/>
        </p:blipFill>
        <p:spPr>
          <a:xfrm>
            <a:off x="0" y="1547640"/>
            <a:ext cx="10080720" cy="60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60520" y="58680"/>
            <a:ext cx="890424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НУГУШСКОЕ ВОДОХРАНИЛИЩ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503280" y="2177640"/>
            <a:ext cx="9075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3" name="Picture 3" descr=""/>
          <p:cNvPicPr/>
          <p:nvPr/>
        </p:nvPicPr>
        <p:blipFill>
          <a:blip r:embed="rId2"/>
          <a:stretch/>
        </p:blipFill>
        <p:spPr>
          <a:xfrm>
            <a:off x="0" y="1555920"/>
            <a:ext cx="10080720" cy="60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60520" y="58680"/>
            <a:ext cx="890424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4617b"/>
                </a:solidFill>
                <a:latin typeface="Arial"/>
              </a:rPr>
              <a:t>ОКЕАН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503280" y="2177640"/>
            <a:ext cx="9075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6" name="Picture 3" descr=""/>
          <p:cNvPicPr/>
          <p:nvPr/>
        </p:nvPicPr>
        <p:blipFill>
          <a:blip r:embed="rId2"/>
          <a:stretch/>
        </p:blipFill>
        <p:spPr>
          <a:xfrm>
            <a:off x="0" y="1116000"/>
            <a:ext cx="10080720" cy="647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Freeform 1"/>
          <p:cNvSpPr/>
          <p:nvPr/>
        </p:nvSpPr>
        <p:spPr>
          <a:xfrm>
            <a:off x="-81000" y="314280"/>
            <a:ext cx="10161720" cy="7105680"/>
          </a:xfrm>
          <a:prstGeom prst="pie">
            <a:avLst/>
          </a:prstGeom>
          <a:solidFill>
            <a:srgbClr val="d7ae85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2"/>
          <p:cNvSpPr/>
          <p:nvPr/>
        </p:nvSpPr>
        <p:spPr>
          <a:xfrm>
            <a:off x="357120" y="208080"/>
            <a:ext cx="714600" cy="7142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3"/>
          <p:cNvSpPr/>
          <p:nvPr/>
        </p:nvSpPr>
        <p:spPr>
          <a:xfrm>
            <a:off x="1071720" y="684360"/>
            <a:ext cx="634680" cy="2379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4"/>
          <p:cNvSpPr/>
          <p:nvPr/>
        </p:nvSpPr>
        <p:spPr>
          <a:xfrm>
            <a:off x="911160" y="922320"/>
            <a:ext cx="238320" cy="396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5"/>
          <p:cNvSpPr/>
          <p:nvPr/>
        </p:nvSpPr>
        <p:spPr>
          <a:xfrm flipV="1">
            <a:off x="1071720" y="205920"/>
            <a:ext cx="555480" cy="2415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6"/>
          <p:cNvSpPr/>
          <p:nvPr/>
        </p:nvSpPr>
        <p:spPr>
          <a:xfrm flipH="1">
            <a:off x="593640" y="922320"/>
            <a:ext cx="82800" cy="396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7"/>
          <p:cNvSpPr/>
          <p:nvPr/>
        </p:nvSpPr>
        <p:spPr>
          <a:xfrm flipH="1">
            <a:off x="-1800" y="763560"/>
            <a:ext cx="439560" cy="477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8"/>
          <p:cNvSpPr/>
          <p:nvPr/>
        </p:nvSpPr>
        <p:spPr>
          <a:xfrm flipH="1">
            <a:off x="-1800" y="525600"/>
            <a:ext cx="360360" cy="79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29160" bIns="291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9"/>
          <p:cNvSpPr/>
          <p:nvPr/>
        </p:nvSpPr>
        <p:spPr>
          <a:xfrm flipH="1" flipV="1">
            <a:off x="-1800" y="-1800"/>
            <a:ext cx="439560" cy="371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0"/>
          <p:cNvSpPr/>
          <p:nvPr/>
        </p:nvSpPr>
        <p:spPr>
          <a:xfrm flipV="1">
            <a:off x="673200" y="-1440"/>
            <a:ext cx="3240" cy="2109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1"/>
          <p:cNvSpPr/>
          <p:nvPr/>
        </p:nvSpPr>
        <p:spPr>
          <a:xfrm flipV="1">
            <a:off x="911160" y="-1800"/>
            <a:ext cx="238320" cy="2905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2"/>
          <p:cNvSpPr/>
          <p:nvPr/>
        </p:nvSpPr>
        <p:spPr>
          <a:xfrm>
            <a:off x="0" y="1487520"/>
            <a:ext cx="8402760" cy="607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13"/>
          <p:cNvSpPr/>
          <p:nvPr/>
        </p:nvSpPr>
        <p:spPr>
          <a:xfrm>
            <a:off x="6537240" y="314280"/>
            <a:ext cx="1424160" cy="1217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4"/>
          <p:cNvSpPr/>
          <p:nvPr/>
        </p:nvSpPr>
        <p:spPr>
          <a:xfrm>
            <a:off x="174600" y="1795320"/>
            <a:ext cx="491184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Река 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водный поток, текущий 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выработанном им углублен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5"/>
          <p:cNvSpPr/>
          <p:nvPr/>
        </p:nvSpPr>
        <p:spPr>
          <a:xfrm flipH="1">
            <a:off x="2974680" y="5207040"/>
            <a:ext cx="1114200" cy="71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6"/>
          <p:cNvSpPr/>
          <p:nvPr/>
        </p:nvSpPr>
        <p:spPr>
          <a:xfrm rot="19620000">
            <a:off x="2610000" y="5122800"/>
            <a:ext cx="200196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Течение ре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17"/>
          <p:cNvSpPr/>
          <p:nvPr/>
        </p:nvSpPr>
        <p:spPr>
          <a:xfrm>
            <a:off x="7500960" y="1398600"/>
            <a:ext cx="216000" cy="212760"/>
          </a:xfrm>
          <a:custGeom>
            <a:avLst/>
            <a:gdLst>
              <a:gd name="textAreaLeft" fmla="*/ 88920 w 216000"/>
              <a:gd name="textAreaRight" fmla="*/ 127080 w 216000"/>
              <a:gd name="textAreaTop" fmla="*/ 87480 h 212760"/>
              <a:gd name="textAreaBottom" fmla="*/ 125280 h 212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-12600" bIns="-12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8"/>
          <p:cNvSpPr/>
          <p:nvPr/>
        </p:nvSpPr>
        <p:spPr>
          <a:xfrm>
            <a:off x="7977240" y="1241280"/>
            <a:ext cx="1827000" cy="7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Исток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ачало ре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9"/>
          <p:cNvSpPr/>
          <p:nvPr/>
        </p:nvSpPr>
        <p:spPr>
          <a:xfrm flipH="1">
            <a:off x="7818480" y="1477800"/>
            <a:ext cx="479520" cy="32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20"/>
          <p:cNvSpPr/>
          <p:nvPr/>
        </p:nvSpPr>
        <p:spPr>
          <a:xfrm>
            <a:off x="2976480" y="5896080"/>
            <a:ext cx="7620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Устье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– место впадения реки в океан, море, озеро, ре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21"/>
          <p:cNvSpPr/>
          <p:nvPr/>
        </p:nvSpPr>
        <p:spPr>
          <a:xfrm>
            <a:off x="2341440" y="6081840"/>
            <a:ext cx="317520" cy="317520"/>
          </a:xfrm>
          <a:custGeom>
            <a:avLst/>
            <a:gdLst>
              <a:gd name="textAreaLeft" fmla="*/ 130680 w 317520"/>
              <a:gd name="textAreaRight" fmla="*/ 186840 w 317520"/>
              <a:gd name="textAreaTop" fmla="*/ 130680 h 317520"/>
              <a:gd name="textAreaBottom" fmla="*/ 186840 h 317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760" bIns="5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22"/>
          <p:cNvSpPr/>
          <p:nvPr/>
        </p:nvSpPr>
        <p:spPr>
          <a:xfrm flipH="1">
            <a:off x="2655720" y="6161040"/>
            <a:ext cx="401760" cy="795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3"/>
          <p:cNvSpPr/>
          <p:nvPr/>
        </p:nvSpPr>
        <p:spPr>
          <a:xfrm rot="16860000">
            <a:off x="5191560" y="3199680"/>
            <a:ext cx="179244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Главная р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24"/>
          <p:cNvSpPr/>
          <p:nvPr/>
        </p:nvSpPr>
        <p:spPr>
          <a:xfrm flipH="1" rot="18600000">
            <a:off x="3334320" y="3794760"/>
            <a:ext cx="156528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ри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25"/>
          <p:cNvSpPr/>
          <p:nvPr/>
        </p:nvSpPr>
        <p:spPr>
          <a:xfrm rot="18900000">
            <a:off x="6878880" y="3883680"/>
            <a:ext cx="143028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ри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27"/>
          <p:cNvSpPr/>
          <p:nvPr/>
        </p:nvSpPr>
        <p:spPr>
          <a:xfrm>
            <a:off x="2500200" y="1557360"/>
            <a:ext cx="5081760" cy="4603680"/>
          </a:xfrm>
          <a:prstGeom prst="pie">
            <a:avLst/>
          </a:prstGeom>
          <a:noFill/>
          <a:ln w="284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WordArt 30"/>
          <p:cNvSpPr txBox="1"/>
          <p:nvPr/>
        </p:nvSpPr>
        <p:spPr>
          <a:xfrm>
            <a:off x="1944720" y="366840"/>
            <a:ext cx="4842000" cy="206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09963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Что такое река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594" name="Text Box 25"/>
          <p:cNvSpPr/>
          <p:nvPr/>
        </p:nvSpPr>
        <p:spPr>
          <a:xfrm rot="20541600">
            <a:off x="4097520" y="4081320"/>
            <a:ext cx="184176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равый бер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5"/>
          <p:cNvSpPr/>
          <p:nvPr/>
        </p:nvSpPr>
        <p:spPr>
          <a:xfrm rot="20541600">
            <a:off x="3555000" y="5389920"/>
            <a:ext cx="184140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Левый бер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07:41:24Z</dcterms:created>
  <dc:creator/>
  <dc:description/>
  <dc:language>en-US</dc:language>
  <cp:lastModifiedBy>*****</cp:lastModifiedBy>
  <dcterms:modified xsi:type="dcterms:W3CDTF">2011-10-29T04:33:39Z</dcterms:modified>
  <cp:revision>6</cp:revision>
  <dc:subject/>
  <dc:title>Слайд 1</dc:title>
</cp:coreProperties>
</file>